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2E0-33E0-452F-85C6-2153C335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529-082A-467B-BEA0-390F2DA1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C39-3266-4C19-81FC-2229E037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98E-4E57-4B7E-B6C9-DA85D8F6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7C3C-1C7F-4201-8A03-46D5182E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BD44-5E6C-4199-96D9-ADB54651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913D-6B4D-4E07-A7F7-5CCD43D0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D711-589A-4B5E-BBB3-F13F4966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AFCD-8413-4CD4-BAF7-C75B3C76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9E89-E85E-4DE4-B594-3494BFBF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7AB9-9053-42E3-A0A3-2C4F0EE2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AAC-BB25-4C5C-91CF-55FAAAE3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F183-E9A6-4188-B305-568687C6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0334-8B2E-453C-A9D1-3D164703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024F-6976-4B32-A4E8-1D44E396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3573-3742-478D-B9BB-D6EB391C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E8CC-4E36-4EC4-BC10-D68CBBE2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576-4BAF-4608-8708-2C576A2A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A1C-71E6-4B9F-BBB3-DFDA7B93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92A-6906-4F62-A0B1-B7739E55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BA4-BE58-473E-A4FA-A149DB28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7F4-BE18-459D-8530-6C57AD11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359-2515-475E-9B3A-EE8CA713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1C8-DF5A-43CF-9E50-C2CCD18D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17AB-7684-45C1-ACAD-45A0C652332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346F-C341-4D0D-8A9B-C141AD04AE6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了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可编程控制器的硬件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了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可编程控制器常见应用系统的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用编程元件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一般应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1916280"/>
            <a:ext cx="75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计数器、特殊功能辅助继电器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340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计数器的一般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典型用途特殊功能辅助继电器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会使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电脑上编辑梯形图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7960" y="5723640"/>
            <a:ext cx="25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2-9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输入输出继电器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14720" y="577116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1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梯形图及指令表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744720" cy="3720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643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2000" y="2509920"/>
            <a:ext cx="835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应用比较广泛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一，它由基本单元、扩展单元、扩展模块及特殊功能单元构成。其中基本单元内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主机，扩展单元用于增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数，扩展模块用于改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的比例，特殊功能模块用于模拟量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、网络通信等。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编程元件有输入触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输出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辅助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定时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状态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变址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指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常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/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思考并将合适的答案填于空白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时器的线圈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开始定时，定时时间到时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用定时器的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被复位，复位后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变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计数器的复位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计数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定值时，计数器的当前值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计数当前值等于设定值时，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再来计数脉冲时当前值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计数器被复位，复位后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不能用于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继电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初始化脉冲，在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它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扫描周期。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时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直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元件中只有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元件号采用八进制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91440" y="145980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91440" y="145980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1800" y="1903320"/>
            <a:ext cx="82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八进制数和十六进制数只是二进制数的一种较为方便的写法，但二进制数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是两个不同的概念，一个多位十进制数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和二进制数是不一样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：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和二进制数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10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11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很多指令中，既有对二进制数的运算处理，也有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的运算处理，并且有二进制数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的相互转换指令，使用时应予以区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思考和计算，并把结果填入空格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不同数制中应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1101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不同数制中应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1483920"/>
            <a:ext cx="42292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90000" tIns="84240" bIns="8424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532720" cy="216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860436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br>
              <a:rPr sz="3800"/>
            </a:b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34484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7728" t="13908" r="10029" b="9645"/>
          <a:stretch/>
        </p:blipFill>
        <p:spPr>
          <a:xfrm>
            <a:off x="4290840" y="260280"/>
            <a:ext cx="4853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3049560"/>
            <a:ext cx="28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-□□M□-0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典型输入外部配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538" r="0" b="1109"/>
          <a:stretch/>
        </p:blipFill>
        <p:spPr>
          <a:xfrm>
            <a:off x="3276720" y="1292400"/>
            <a:ext cx="586728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3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2760" y="2212920"/>
          <a:ext cx="8642160" cy="4548240"/>
        </p:xfrm>
        <a:graphic>
          <a:graphicData uri="http://schemas.openxmlformats.org/drawingml/2006/table">
            <a:tbl>
              <a:tblPr/>
              <a:tblGrid>
                <a:gridCol w="1220760"/>
                <a:gridCol w="1227240"/>
                <a:gridCol w="1290600"/>
                <a:gridCol w="1226880"/>
                <a:gridCol w="1108080"/>
                <a:gridCol w="1127160"/>
                <a:gridCol w="1441440"/>
              </a:tblGrid>
              <a:tr h="75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24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24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点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点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连接的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R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R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T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440440" y="166932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1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带电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扩展单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3480" y="1551960"/>
            <a:ext cx="48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1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不带电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扩展模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01640" y="2117880"/>
          <a:ext cx="7772400" cy="46321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入 模 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模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模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入 点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出 点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1557000"/>
            <a:ext cx="5699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编程元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2203560"/>
            <a:ext cx="189324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输入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辅助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通用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掉电保持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特殊功能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通用定时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累积定时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计数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加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双向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高速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205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状态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初始状态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回归原点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一般通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保持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通用型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保持型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特殊功能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变址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用于子程序调用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的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用于中断服务程序入口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常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1857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br>
              <a:rPr sz="4200"/>
            </a:b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br>
              <a:rPr sz="4200"/>
            </a:b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2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4560" y="15573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定时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闪光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69000" y="6222240"/>
            <a:ext cx="23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6 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闪光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38720" y="6236280"/>
            <a:ext cx="18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8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303720" cy="410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284720" y="2637000"/>
            <a:ext cx="46213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1:26:56Z</dcterms:modified>
  <cp:revision>34</cp:revision>
  <dc:subject/>
  <dc:title>模块二  S7-200系列PLC的基本结构 </dc:title>
</cp:coreProperties>
</file>